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D81-50F7-43BB-8B63-C01644AA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848-BB47-489C-A7DA-9A1B0157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3ED-B2E9-40B5-AB32-2DBA09E8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E0A-A813-4E61-A5A2-0C5781A3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ACB-1EF4-45FB-B20C-644ECCBA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47F-39C2-4ACF-A64A-02D94E46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B15-530A-43A2-8E61-A03BC6EF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F65-3D51-4C24-97A6-795B47EE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E4E-68ED-4806-822C-FCEBF651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C81-6088-432C-98A0-6C541522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751-7F10-466C-B25B-B7A20D4E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C69-D87F-4D0C-9448-5296139D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98F9-174C-4690-8A42-725774851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2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892080"/>
            <a:ext cx="8610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LINK, gPLINK &amp; HaploView: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00" y="2971800"/>
            <a:ext cx="8305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aun Pur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un@pngu.mgh.harva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Human Genetic Research, Massachusetts General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 Institute of Harvard &amp; 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867280"/>
            <a:ext cx="2438280" cy="689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5638680"/>
            <a:ext cx="1000080" cy="106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96080" y="5943600"/>
            <a:ext cx="1371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22023" t="15630" r="0" b="0"/>
          <a:stretch/>
        </p:blipFill>
        <p:spPr>
          <a:xfrm>
            <a:off x="1371600" y="1052640"/>
            <a:ext cx="6796080" cy="542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LOG file contains many critical details regarding the data, and any possible warnings or error messa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57870" b="65409"/>
          <a:stretch/>
        </p:blipFill>
        <p:spPr>
          <a:xfrm>
            <a:off x="380880" y="1219320"/>
            <a:ext cx="3672000" cy="2224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395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w using the binary fileset, simply check the conversion process  (vali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1828800"/>
            <a:ext cx="1295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62400" y="3762360"/>
            <a:ext cx="5248080" cy="2790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133800" y="4419720"/>
            <a:ext cx="15238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9625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lect 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nary fileset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90920" y="411444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3920" y="534996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fy another unique output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e.g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6019920"/>
            <a:ext cx="76212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8120" y="16812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40640" y="4754520"/>
            <a:ext cx="22701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LOG shows application of default fil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0% genotyping rate, 1% MA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23771" t="4962" r="29893" b="54746"/>
          <a:stretch/>
        </p:blipFill>
        <p:spPr>
          <a:xfrm>
            <a:off x="609480" y="1523880"/>
            <a:ext cx="4038840" cy="2590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395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 view a text file, e.g. output from PLIN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right click on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in default 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19720" y="3505320"/>
            <a:ext cx="4333680" cy="2828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3000" y="4876920"/>
            <a:ext cx="35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.irem file is a list of individuals excluded due to low genotyping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ngle individua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mily ID &amp; individual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19160" y="3079800"/>
            <a:ext cx="1295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allele frequencies for all SN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Hardy-Weinberg equilibriu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alues for all SN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60493" b="65409"/>
          <a:stretch/>
        </p:blipFill>
        <p:spPr>
          <a:xfrm>
            <a:off x="2652840" y="3338640"/>
            <a:ext cx="3443040" cy="2224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53040" y="4313160"/>
            <a:ext cx="1295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8880" y="4665600"/>
            <a:ext cx="1295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23771" t="6149" r="29893" b="25111"/>
          <a:stretch/>
        </p:blipFill>
        <p:spPr>
          <a:xfrm>
            <a:off x="304920" y="914400"/>
            <a:ext cx="4038480" cy="4419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 could view the whole-genome files (e.g. HWE statistics) in 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0" r="13540" b="7401"/>
          <a:stretch/>
        </p:blipFill>
        <p:spPr>
          <a:xfrm>
            <a:off x="4114800" y="2984400"/>
            <a:ext cx="4648320" cy="3416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0560" y="2362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t, these are hu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es, so not very us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267440" cy="939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tead, 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in HaploView…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om the right-click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ust 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752480" y="198072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819520" y="2028960"/>
            <a:ext cx="5867280" cy="465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420372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kes basic test PLINK output file and tabulates and provides sorting, searching, filtering and plot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152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ter, to select only HWE tests for controls (TEST = UNA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68580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39447" t="67278" r="0" b="16779"/>
          <a:stretch/>
        </p:blipFill>
        <p:spPr>
          <a:xfrm>
            <a:off x="961920" y="1295280"/>
            <a:ext cx="4372200" cy="914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828800" y="2362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xt, filter on P-values less than 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274320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40505" t="65953" r="0" b="18110"/>
          <a:stretch/>
        </p:blipFill>
        <p:spPr>
          <a:xfrm>
            <a:off x="2971800" y="3276720"/>
            <a:ext cx="429588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0" t="7479" r="0" b="64622"/>
          <a:stretch/>
        </p:blipFill>
        <p:spPr>
          <a:xfrm>
            <a:off x="990720" y="4952880"/>
            <a:ext cx="721980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952880" y="4419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_HW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 sort by P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4800600"/>
            <a:ext cx="30456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 QC-filtered data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ilters used for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, one would want to look at these dat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447920" y="3201840"/>
          <a:ext cx="6300720" cy="3427560"/>
        </p:xfrm>
        <a:graphic>
          <a:graphicData uri="http://schemas.openxmlformats.org/drawingml/2006/table">
            <a:tbl>
              <a:tblPr/>
              <a:tblGrid>
                <a:gridCol w="3443040"/>
                <a:gridCol w="2857680"/>
              </a:tblGrid>
              <a:tr h="422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allele frequency (MA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genotyping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5 missingn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P genotyping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5 missingn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y-Weinber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y default, contro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60493" b="74895"/>
          <a:stretch/>
        </p:blipFill>
        <p:spPr>
          <a:xfrm>
            <a:off x="214200" y="214200"/>
            <a:ext cx="3443400" cy="1614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828800" y="625320"/>
            <a:ext cx="1295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666880" y="1981080"/>
            <a:ext cx="5248440" cy="3791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14600" y="4524480"/>
            <a:ext cx="17524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49561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ll new fil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ga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23880" y="525744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5867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t,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licking OK, 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105160" y="5791320"/>
            <a:ext cx="6094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21002" b="34646"/>
          <a:stretch/>
        </p:blipFill>
        <p:spPr>
          <a:xfrm>
            <a:off x="2362320" y="2986200"/>
            <a:ext cx="6019560" cy="356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7080" y="4433760"/>
            <a:ext cx="16765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380880"/>
            <a:ext cx="83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Download the example data ZIP from: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ngu.mgh.harvard.edu/purcell/plink/example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00" y="1371600"/>
            <a:ext cx="75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all.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tems in the archive (right-click), should create 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lder c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00" y="2529000"/>
            <a:ext cx="75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Double-click on gPLINK.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867120" cy="2523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03880" y="330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ose 1% MAF frequency cut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123720" y="530280"/>
            <a:ext cx="129564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76760" y="730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w up to 5% missing geno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 S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13160" y="1066680"/>
            <a:ext cx="1311120" cy="230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415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w up to 5% missing geno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613320" y="1650600"/>
            <a:ext cx="1187280" cy="25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48160" y="20271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WE test P-value threshold of 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00400" y="198072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0987" t="30817" r="18690" b="8742"/>
          <a:stretch/>
        </p:blipFill>
        <p:spPr>
          <a:xfrm>
            <a:off x="3352680" y="2819520"/>
            <a:ext cx="5257800" cy="3886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90920" y="4648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2784" t="0" r="55247" b="48816"/>
          <a:stretch/>
        </p:blipFill>
        <p:spPr>
          <a:xfrm>
            <a:off x="152280" y="900000"/>
            <a:ext cx="3657600" cy="3291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1240" y="289080"/>
            <a:ext cx="90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 are now ready to perform the basic association analysis of the QC+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92200" y="1874880"/>
            <a:ext cx="1905120" cy="260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666960" y="2590920"/>
            <a:ext cx="5248440" cy="3990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715000" y="166356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 sure to select QC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ga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495320" y="205740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240" y="45720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 multiple-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rrected P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“adjusted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90920" y="4800240"/>
            <a:ext cx="99036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82840" y="56736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ration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5943600"/>
            <a:ext cx="114300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21858" t="15406" r="22189" b="0"/>
          <a:stretch/>
        </p:blipFill>
        <p:spPr>
          <a:xfrm>
            <a:off x="762120" y="733320"/>
            <a:ext cx="4876560" cy="5438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8520" y="152388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540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omic control “lamb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334120" y="4876920"/>
            <a:ext cx="121896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9144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in single SNP association results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1.assoc, s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genomic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742840" y="1479600"/>
            <a:ext cx="2895480" cy="120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09800" y="762120"/>
            <a:ext cx="7448400" cy="5705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28600" y="228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om gPLINK, open assoc1.assoc in Haploview, and request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f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5362560"/>
            <a:ext cx="114300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440" y="95400"/>
            <a:ext cx="2857680" cy="3333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619280" y="3524400"/>
            <a:ext cx="7219800" cy="3181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943600" y="380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lect to plo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log10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047760" y="762120"/>
            <a:ext cx="2895480" cy="272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1339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 grid lines at 3 an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0.001 and 0.00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047760" y="1676520"/>
            <a:ext cx="2895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124080" y="2847960"/>
            <a:ext cx="2819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638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n select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2120" y="1050840"/>
            <a:ext cx="7747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16200" y="1050840"/>
            <a:ext cx="7747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1387440"/>
            <a:ext cx="7747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1679400"/>
            <a:ext cx="7747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9918" r="2939" b="39401"/>
          <a:stretch/>
        </p:blipFill>
        <p:spPr>
          <a:xfrm>
            <a:off x="1219320" y="3657600"/>
            <a:ext cx="7238880" cy="2895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rcRect l="0" t="14496" r="1282" b="17374"/>
          <a:stretch/>
        </p:blipFill>
        <p:spPr>
          <a:xfrm>
            <a:off x="152280" y="533520"/>
            <a:ext cx="5867640" cy="2819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95880" y="50148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n the plot, you can zoom 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ld mouse over point to get SNP name an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uble click to bring to point in results file for that S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867280"/>
            <a:ext cx="11430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rcRect l="-2687" t="0" r="40841" b="40882"/>
          <a:stretch/>
        </p:blipFill>
        <p:spPr>
          <a:xfrm>
            <a:off x="3463920" y="380880"/>
            <a:ext cx="3505320" cy="2438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7159" t="10688" r="3838" b="61274"/>
          <a:stretch/>
        </p:blipFill>
        <p:spPr>
          <a:xfrm>
            <a:off x="228600" y="4724280"/>
            <a:ext cx="6629400" cy="1600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rcRect l="0" t="77470" r="69570" b="7849"/>
          <a:stretch/>
        </p:blipFill>
        <p:spPr>
          <a:xfrm>
            <a:off x="380880" y="1066680"/>
            <a:ext cx="2266920" cy="838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rcRect l="16133" t="25866" r="56980" b="64897"/>
          <a:stretch/>
        </p:blipFill>
        <p:spPr>
          <a:xfrm>
            <a:off x="5673600" y="1631880"/>
            <a:ext cx="3276720" cy="81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5"/>
          <a:srcRect l="0" t="0" r="0" b="39869"/>
          <a:stretch/>
        </p:blipFill>
        <p:spPr>
          <a:xfrm>
            <a:off x="7426440" y="3581280"/>
            <a:ext cx="1504800" cy="251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819520" y="1295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7886160" y="2933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6873840" y="527364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6600" y="3276720"/>
            <a:ext cx="53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ou can merge in additional SNP results: for example, the adjusted P-values (select just GC genomic control and BONF, Bonferron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4536" t="2593" r="57870" b="66596"/>
          <a:stretch/>
        </p:blipFill>
        <p:spPr>
          <a:xfrm>
            <a:off x="228600" y="990720"/>
            <a:ext cx="3276720" cy="1981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523880" y="2301840"/>
            <a:ext cx="11430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5240" y="181080"/>
            <a:ext cx="81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 will perform a stratified analysis, that allows for SNP and disease frequencies differences between Chinese and Japanese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114800" y="1432080"/>
            <a:ext cx="4950000" cy="4230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15040" y="1020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gas3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829040" y="1143000"/>
            <a:ext cx="53352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376236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3276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owse to 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.c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 define st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88880" y="4137120"/>
            <a:ext cx="3048120" cy="2217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14545" t="87464" r="52731" b="2549"/>
          <a:stretch/>
        </p:blipFill>
        <p:spPr>
          <a:xfrm>
            <a:off x="108000" y="6073920"/>
            <a:ext cx="2666880" cy="59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5"/>
          <a:srcRect l="37411" t="25971" r="46119" b="65168"/>
          <a:stretch/>
        </p:blipFill>
        <p:spPr>
          <a:xfrm>
            <a:off x="2089080" y="4130640"/>
            <a:ext cx="1752840" cy="685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216" name=""/>
          <p:cNvSpPr/>
          <p:nvPr/>
        </p:nvSpPr>
        <p:spPr>
          <a:xfrm flipH="1" flipV="1">
            <a:off x="4571640" y="5333760"/>
            <a:ext cx="3049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ll oper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57560" y="4299120"/>
            <a:ext cx="11430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ew genomic control GC va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ew best SNP/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survive strict (Bonferroni) correction for multiple tes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tratified association result for the previous best SN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09800" y="3425760"/>
            <a:ext cx="7219800" cy="3181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009800" y="168120"/>
            <a:ext cx="72198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41699" b="33856"/>
          <a:stretch/>
        </p:blipFill>
        <p:spPr>
          <a:xfrm>
            <a:off x="3186000" y="1676520"/>
            <a:ext cx="4815000" cy="4057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28800" y="2057400"/>
            <a:ext cx="16765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143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rt a ne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LIN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m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ed basic QC on a WGAS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9,493 SNPs in 89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stratification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ing on known population membership seems to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ified analysis identifies SNP/region of interest on chromosome 8 (rs1120400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41339" b="43130"/>
          <a:stretch/>
        </p:blipFill>
        <p:spPr>
          <a:xfrm>
            <a:off x="5715000" y="106668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1238400"/>
            <a:ext cx="4190760" cy="356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513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we t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LINK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INK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ab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ploview (version 4.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abl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en first using gPLINK, there are some basic configuratio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1736640"/>
            <a:ext cx="1127160" cy="33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97320" y="2863800"/>
            <a:ext cx="1127160" cy="3366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2666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20901" t="28440" r="54133" b="48818"/>
          <a:stretch/>
        </p:blipFill>
        <p:spPr>
          <a:xfrm>
            <a:off x="6172200" y="3048120"/>
            <a:ext cx="2438280" cy="20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6156360" y="3809880"/>
            <a:ext cx="2514600" cy="517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4267080"/>
            <a:ext cx="2514600" cy="549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3480" y="2352600"/>
            <a:ext cx="5667480" cy="4124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248616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lect as the Project the newly created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”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75120" y="3740040"/>
            <a:ext cx="12952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28195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765760"/>
            <a:ext cx="129564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447920"/>
            <a:ext cx="12952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50924" b="49070"/>
          <a:stretch/>
        </p:blipFill>
        <p:spPr>
          <a:xfrm>
            <a:off x="2438280" y="1981080"/>
            <a:ext cx="4052880" cy="312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395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ep 1.  From the raw SNP genotype file, create a compact binary fil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4200" y="2394000"/>
            <a:ext cx="1295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38360" y="1533600"/>
            <a:ext cx="5248440" cy="3790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395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brings up the basic of dialog the gPLINK uses for most oper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9907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Select  the “Standard fileset”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15920" y="134316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95680" y="2224080"/>
            <a:ext cx="83808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6002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The drop-down lists the available PED/MAP fileset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480" y="36892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Check the button to create a Binary fil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06760" y="4070520"/>
            <a:ext cx="83808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41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 Specify a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iqu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ame –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gas2”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666880" y="4876920"/>
            <a:ext cx="83844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67440" y="5257800"/>
            <a:ext cx="304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73084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. Only when gPLINK is happy that the form has been filled out, will you be able to select “OK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514520"/>
            <a:ext cx="72482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28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will bring up this box,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the corresponding PLINK command that is about to b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a space for you to add a description (to later track the pro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3727440" y="267336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19550" b="81059"/>
          <a:stretch/>
        </p:blipFill>
        <p:spPr>
          <a:xfrm>
            <a:off x="990720" y="3257640"/>
            <a:ext cx="6643440" cy="1162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19550" b="80131"/>
          <a:stretch/>
        </p:blipFill>
        <p:spPr>
          <a:xfrm>
            <a:off x="976320" y="5181480"/>
            <a:ext cx="6643800" cy="1219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3727440" y="461016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4323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it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 this first step will  take 1 or 2 minut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360" y="352440"/>
            <a:ext cx="8258040" cy="6134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 flipV="1">
            <a:off x="3946680" y="1838160"/>
            <a:ext cx="885600" cy="6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1080" y="1533600"/>
            <a:ext cx="28191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view list of input and output files from this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89880" y="3819600"/>
            <a:ext cx="2514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sic LOG file generated by P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3514680"/>
            <a:ext cx="15238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st of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5T23:22:02Z</dcterms:created>
  <dc:creator>Shaun Purcell</dc:creator>
  <dc:description/>
  <dc:language>en-US</dc:language>
  <cp:lastModifiedBy>Shaun Purcell</cp:lastModifiedBy>
  <dcterms:modified xsi:type="dcterms:W3CDTF">2008-06-02T14:45:08Z</dcterms:modified>
  <cp:revision>14</cp:revision>
  <dc:subject/>
  <dc:title>Slide 1</dc:title>
</cp:coreProperties>
</file>